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B27-4657-4371-A553-A90FF8D3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C60-AB24-42B6-B345-B644A8CA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12FE-3EB6-4BC3-8E93-B1D382CE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DE9-5826-4DA9-A112-160CD0F2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F588-FE0B-42AB-A857-691A4172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EED5-B5A4-4B13-9085-55F7293D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77F-3195-489D-B46A-32909E9B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1D5E-9AE3-4173-BF9B-C2AD03BB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029-E38E-4967-BEE6-82B08731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E92D-DD97-4FCE-A935-1F7D9B16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3BC-8747-42CF-9445-6BB503F1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9CD-6E03-4428-97BA-DB27B3F5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6A11-62BD-4EC8-81B0-1088FEDD1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ETODA BACKTRACK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50920" y="55008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64000" y="1773360"/>
            <a:ext cx="709920" cy="709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15:05Z</dcterms:modified>
  <cp:revision>33</cp:revision>
  <dc:subject/>
  <dc:title>SALARIUL</dc:title>
</cp:coreProperties>
</file>